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63F5-0806-434B-B07B-72BF3F26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A023-AC83-41F2-9C6E-6C68E757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7970-763F-4C72-8CC8-1C7F8000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CD23-F484-439F-8D79-59411A29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9265-383E-4527-8176-2F9D287C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C984-4C6F-469F-BED5-8FD79A6A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EE3D-6B08-4548-B68A-7EB11AAA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2B5E-5E1B-451A-A65E-415AA3B9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4585-1BCF-4357-A643-2CE537E3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FFA6-6F02-43C5-9213-D4E97F7A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2A56-164B-4E94-A835-3A5EBAD0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FD46-A8ED-45D4-B0AD-0D0A3CE3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F12D-B352-4F89-A119-915E0C372C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Siglo_XVIII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Presentación Oral</a:t>
            </a:r>
            <a:br>
              <a:rPr sz="6000"/>
            </a:b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uana Latorre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                        6 Año A</a:t>
            </a:r>
            <a:br>
              <a:rPr sz="6000"/>
            </a:br>
            <a:br>
              <a:rPr sz="6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wilson-pro-open-blx-raqueta-tenis-feliciano-fopez-2011"/>
          <p:cNvPicPr/>
          <p:nvPr/>
        </p:nvPicPr>
        <p:blipFill>
          <a:blip r:embed="rId1"/>
          <a:stretch/>
        </p:blipFill>
        <p:spPr>
          <a:xfrm>
            <a:off x="1066680" y="3206880"/>
            <a:ext cx="2676600" cy="296856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4214880" y="300024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eni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Picture 7" descr="PELOTA_TENIS"/>
          <p:cNvPicPr/>
          <p:nvPr/>
        </p:nvPicPr>
        <p:blipFill>
          <a:blip r:embed="rId2"/>
          <a:stretch/>
        </p:blipFill>
        <p:spPr>
          <a:xfrm>
            <a:off x="3992400" y="5138640"/>
            <a:ext cx="123840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mejor jugador de tenis ``Djokovic´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b0f0"/>
                </a:solidFill>
                <a:latin typeface="Arial"/>
              </a:rPr>
              <a:t>- Nació el 22 de Mayo de 1987 en Belgr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0f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b0f0"/>
                </a:solidFill>
                <a:latin typeface="Arial"/>
              </a:rPr>
              <a:t>- Juega al tenis desde los 4 años y a los 12 se incorporó a una academia en Aleman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3839812w-640x640x80"/>
          <p:cNvPicPr/>
          <p:nvPr/>
        </p:nvPicPr>
        <p:blipFill>
          <a:blip r:embed="rId1"/>
          <a:stretch/>
        </p:blipFill>
        <p:spPr>
          <a:xfrm>
            <a:off x="-6480" y="1920960"/>
            <a:ext cx="4621320" cy="3571920"/>
          </a:xfrm>
          <a:prstGeom prst="rect">
            <a:avLst/>
          </a:prstGeom>
          <a:ln w="0">
            <a:noFill/>
          </a:ln>
        </p:spPr>
      </p:pic>
      <p:sp>
        <p:nvSpPr>
          <p:cNvPr id="48" name="6 Rectángulo"/>
          <p:cNvSpPr/>
          <p:nvPr/>
        </p:nvSpPr>
        <p:spPr>
          <a:xfrm>
            <a:off x="1228680" y="557208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Arial"/>
              </a:rPr>
              <a:t>Novak  Djokov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i deporte favorit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-¿Cuándo juego al teni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b0f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b0f0"/>
                </a:solidFill>
                <a:latin typeface="Arial"/>
              </a:rPr>
              <a:t>Fines de semana en        Rumenc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es-ES" sz="2800" spc="-1" strike="noStrike">
                <a:solidFill>
                  <a:srgbClr val="00b0f0"/>
                </a:solidFill>
                <a:latin typeface="Arial"/>
              </a:rPr>
              <a:t>Martes con Juana Costa y chicas de 5º 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El tenis da la posibilidad de jugar con quien quieras como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u papá, mamá, hermano, primo, amig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o empecé a jugar al tenis e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º año yendo a jugar al  mediodía. Aprendí muchas c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Juego Olímpico y Paralìmpico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4" descr="180607tenismedalladet"/>
          <p:cNvPicPr/>
          <p:nvPr/>
        </p:nvPicPr>
        <p:blipFill>
          <a:blip r:embed="rId1"/>
          <a:stretch/>
        </p:blipFill>
        <p:spPr>
          <a:xfrm>
            <a:off x="1785960" y="1000080"/>
            <a:ext cx="51433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istoria del te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Las culturas egipcia, romana, griega y azt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Origen en Europa a finales del 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iglo XVIII</a:t>
            </a: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Desde 1926, es un deporte profesio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isner_fist1"/>
          <p:cNvPicPr/>
          <p:nvPr/>
        </p:nvPicPr>
        <p:blipFill>
          <a:blip r:embed="rId2"/>
          <a:stretch/>
        </p:blipFill>
        <p:spPr>
          <a:xfrm>
            <a:off x="4714920" y="1357200"/>
            <a:ext cx="342900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21:50:28Z</dcterms:created>
  <dc:creator>user</dc:creator>
  <dc:description/>
  <dc:language>en-US</dc:language>
  <cp:lastModifiedBy>Flia Bustamante</cp:lastModifiedBy>
  <dcterms:modified xsi:type="dcterms:W3CDTF">2012-04-11T03:03:38Z</dcterms:modified>
  <cp:revision>10</cp:revision>
  <dc:subject/>
  <dc:title>  </dc:title>
</cp:coreProperties>
</file>